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C5B-0995-436F-91FF-1911D5E0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167-C58F-4EE3-9499-F5B68107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1B8-DD76-48A1-A17E-D6E7A915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6EA-625C-45E5-AC69-E1B4F697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BFB-B7AC-485B-BA05-2F53EB90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70F4-068F-4AB3-BFCD-3513E2F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4FFB-019C-45AA-AF36-E48C2323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4D85-3FC3-46D7-B0B2-9B2AFAD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4678-131D-42E8-89BE-91F67384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4C7D-D9C0-46AA-B1AE-9264601B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8B30-D961-4D80-8C18-4391FDD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FEA-3AF8-441F-86CB-A64B4BD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59F2-AB31-4C0F-8B7C-1A10342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6B9A-1622-4654-989E-0B8C997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A25C-8D00-4E36-82D3-DD34FC9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B234-4CDF-4D2F-9A27-474F4EC2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27A-2BB8-45ED-9260-78E9F6EC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5E34-ABE6-472B-BE11-6846656F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0352-6889-4723-80E0-F62930B3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8670-930E-4EA1-B1F3-909248A7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6789-8950-4339-A0F5-F7D82275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6DDE-8E36-472A-ADD9-8CF399C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C50-46A4-4AF7-81F7-05C509C2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4A75-1C2E-424A-A04F-F70B190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8330-FBA2-4CDD-B712-D94B230B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761C-9260-4A91-B926-B16C86C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D711-40C2-4C0B-90C4-EBCFD79D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B834-8D15-451B-9D9C-C8DA8529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E9AC-58A4-4206-973A-FFFCF109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221C-D210-4E68-B75C-97AA1641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B20E-17EF-4F67-824A-E1054840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D676-D3E5-475D-86A3-B35C5AD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A305-4D74-454B-8000-92896658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2CC-3BA7-4017-854F-4CDE636B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29C28-70DC-46EE-9708-1F196C11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2D0E-84C7-44B5-BCD5-DEE346F9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74FD2-6BB3-4245-A670-A0353DDD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A325-1DA7-43CB-8774-4587FC8F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7C2F-1641-482A-81BF-A2BC980E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4EB1-A7D4-4D1F-A967-EE460DD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F973-2F1E-4E02-8859-380F0AD5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DA84-F9AD-498B-B46D-5F147241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CAE9-DDF9-487C-856B-FA005F33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11EA-B30A-430B-AE30-B81D0523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CCF-81B9-4165-98BA-2AF45124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6C99-02AB-4656-AAEC-C95F26AE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2CB75-6D55-4D75-8919-B4E71CCF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660A-BC47-4C2F-A62D-82881264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51FC-F168-4256-9BF7-BCCC7D6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DD4AF-E6B5-42DA-B3EB-1EFE7647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D7B3-6E64-49E1-862D-4FD7FB4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7F9C2-F13D-4678-99B3-464C27E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159C-53BC-42B0-AF09-796CA87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EC58-0CED-49DE-BCEB-E07F13F3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1A07-499B-42DF-B949-3EFDBF0A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35C-FA1E-4CAD-92D7-220F0DFB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0C29-13A7-4185-A944-B3E0B757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A4A7-5127-4090-BC6F-6B5E8BD9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3305-C7A3-45D1-A640-E7B245D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DE3B3-07C6-44E1-9D8D-527ACBF1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BA61B-72E7-4ACE-969C-3B357E5D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D97C8-FE73-465B-B43C-B8676D61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74E50-7D63-4602-B88D-56EB05B3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0EC20-2783-4FF5-91A5-DFB580A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09F8-6F2C-4833-8688-A35690BA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2CEA-08CB-405D-A78B-BC3D4E49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18F-3480-4B93-928D-6455710B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629A-9838-4732-9EF3-F7D2079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B5C37-5D89-4078-A5E9-20E71459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0733-6C3C-405D-9442-85D082FE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5C200-9495-413B-8214-9F69772A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1EC4C-6484-4FAE-A183-6937E36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9143-EBF9-4A02-8896-DC8148FD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6FDC-95B5-4175-9743-4B571106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B4DF-5E21-46AB-A7E6-8576276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D07E-044D-4CF7-B7E0-D7DB0FA1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DC57-7955-47CC-AC6E-2F69F32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EBF-9D30-45B2-8D32-B6FBEB39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A90E2-29F7-4668-9417-BFB6D14D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7E9C-3A31-4048-885D-59298642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ABD1C-8664-4935-BBBD-ABB24122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927D9-FC69-455F-8A3A-A4798A81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257D-1699-464D-82AC-11229D95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0EAD5-B6AC-43FB-BFB7-D25462C8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7E873-F97E-4B4C-94DA-0E1B94E7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23C5D-C5E5-4B7A-A568-34C84A91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8B239-ED93-4F17-9C7D-1A4EB668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BB7F-3CB9-4157-BD07-774BDA73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F0F-0341-4D23-9ABF-C5CDF639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078F0-48E7-4B1F-803E-B564E16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55E7-DFFE-4DAE-92EA-DA7A023D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F46EB-7616-4490-A2E9-A306ABF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245E-E79A-43BD-8ABD-1A38A83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5922-97DF-48A2-8EAF-6A84847D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CB1E9-25CB-4B59-BB54-B60326C0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51123-0C8F-4CA8-AB03-A089A1A4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BF82-F5F9-41DC-B4EB-4F9D4FA8E4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4FC-2E74-4044-BB04-A20AB697D58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D108-A498-4740-A383-3B1D7E963FE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9F48-B297-4F4D-BE63-36FE41B5B98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9F04-9AD2-4EC6-8D4D-D9868A73A3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220-F0C0-475B-98F1-674E87FF36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613-7535-4BD8-8257-70F75D030D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3E7A-70A1-42A3-9793-1A822BFEF9F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144792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tions…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6191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3"/>
          <p:cNvSpPr/>
          <p:nvPr/>
        </p:nvSpPr>
        <p:spPr>
          <a:xfrm>
            <a:off x="533520" y="137160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ing School Libraries fo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’s Learners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t’s your tur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as a te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vely discuss and develop your group vision of school library media centers for tomorrow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us grow, change, and innovate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21:20Z</dcterms:created>
  <dc:creator>Eagle Schools</dc:creator>
  <dc:description/>
  <dc:language>en-US</dc:language>
  <cp:lastModifiedBy>Eagle Schools</cp:lastModifiedBy>
  <dcterms:modified xsi:type="dcterms:W3CDTF">2010-11-15T19:58:52Z</dcterms:modified>
  <cp:revision>12</cp:revision>
  <dc:subject/>
  <dc:title>Slide 1</dc:title>
</cp:coreProperties>
</file>